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wmf" ContentType="image/x-wmf"/>
  <Override PartName="/ppt/media/image1.wmf" ContentType="image/x-wmf"/>
  <Override PartName="/ppt/media/image17.wmf" ContentType="image/x-wmf"/>
  <Override PartName="/ppt/media/image7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928D8149-B505-4ED1-B063-141ABA680F0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0800" y="5195880"/>
            <a:ext cx="52974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My name is Takeshi Watanab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I am Leader of JEITA EDA Working Gro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JEITA is Japan Electronics and Information technology Industries Association and  it make EDA standa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And I am working in NECEL Jap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I am in charge of IBIS Model and EM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Specifically (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ｽﾍﾟｼﾌｨｶﾘ）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ＭＳ Ｐ明朝"/>
              </a:rPr>
              <a:t>, We generate IBIS model of our company’s LSI for customers and other way we develop EMC Simulation technology for LSI and PCB lev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Well, please let me introduce JEITA EDA-WG Activity and study of Interconnect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First, Micheal-san, Syed-san, BOB-san, Lance-s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We appreciate  your (EIA/IBIS Forum) support and we are glad to attend this mee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ly, let me describe “Study of Interconnect Model 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are studying Interconnect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we start studying SI Model of Connector, PCB(VIA), C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we will examine the accuracy of these SI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4 evaluation boa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normal type bo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図の説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 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le, F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are measurement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Application; DDR, PCI-Express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A Model;     Connector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Components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B (Via, Pattern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tion in Thickness, wid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S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 Tool; Cadence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7B78DA85-099B-4A49-BF6A-B08BE1A43E2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11000" y="4860720"/>
            <a:ext cx="56768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2A2ABC5F-E8CF-4CE3-BC47-26FCCFE60BF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11000" y="4860720"/>
            <a:ext cx="56768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E20BC5AD-2A79-465C-A0E9-AD764AF1544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11000" y="4860720"/>
            <a:ext cx="56768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B373313C-5299-439A-819C-FD45050E212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11000" y="4860720"/>
            <a:ext cx="56768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79B24778-FE44-4EE0-A8E6-490F5C6CC0F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I introduce JEITA IBIS Model Portal site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looks like kitchen. We are able to cook IBIS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sists of these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important  this links EIA/IBIS Web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COOK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translating cookbook v4.0 into Japane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some more information for Japanese us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Library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 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Model Storage rack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device model and connector mode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near future add LSI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Training / IBIS E-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Verification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MI, SI, PI Simulation tools using IBIS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61920" y="80316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EITA will assess the possibility of IBIS Model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 propose to discuss at next JEITA and IBIS technical mee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メインテイン     ﾅｰﾁ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nd We would like to maintain and nurture friendly relations with EIA/IBIS Committe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at al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ank you for all the help EIA/IBIS Committee and all attende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謝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einte'i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、【＠】メインテイ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э':(r)t∫э(r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動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】 育て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68320" y="5040360"/>
            <a:ext cx="529596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This is Outline of my present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1. JEITA EDA-WG Activ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2. Short Team Direction of JEITA EDA W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3. Study of Interconnec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4. JEITA IBIS Model Portal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60200" y="488124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, start by explaining JEITA EDA-WG Activ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s of the WG is standardization of EDA Model for Digital Consumer Electron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Consumer Electronics mean mai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lular  Phone, LCD TV , PDP and other Display, Digital Camera and Video, DVD Recor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re consisted mainly of Digital and RF and ,analog circui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ｴｸﾞｻﾞﾐﾝ　　　　　　　　　　　　　　　　　　　 　ｴﾌｨｶ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examine the possibility of  IBIS V4.1 efficacy or need for New EDA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ＥＤＡモデルの標準化を検討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ＩＢＩＳモデルを第一候補としてＩＢＩＳモデルが有効か検証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～の有効性の判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icacy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＠】エフィカシ、【【名】 有効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060200" y="488124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 frequency of LSI tend to rise fa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Signal of LSI tend to rise fast to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erious PI , SI, EMI problems because switching current of high density LSI has increased rapid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order to have the problem lead to EMI, SI, PI solution for Digital Consumer Electron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fore, , we will need EDA Model and Simulation technolog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t's important for simulation each component level, for example LSI or PC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  　ﾌｧｰｻ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nd further,  It‘s important for simulation PCB whole board level in the near future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　　　　　ｽﾀﾝﾀﾞｰｼﾞｽ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at's the reason , it is necessary to standardize EDA Model for each component such as LSI and Passive component and display device and PCB bo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ortunately, each component industry are located in Jap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ジタル家電ではＳＩＰＩＥＭＩ問題が起きてい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ボードレベルＬＳＩなど部品レベ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れらの最適化が重要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各パーツ、　　　、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ＥＤＡモデルを標準化して、シミュレーション環境を構築することは、重要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68320" y="4960800"/>
            <a:ext cx="529596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Necessary EDA Model on PCB board whole Simulation are mainly 10 compon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ICs; such as Memory, Micro controller, ASIC, AS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Discrete Sem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Passiv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P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C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Conn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Crystal Oscil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and all that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ボードシミュレーションに必要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明朝"/>
              </a:rPr>
              <a:t>各ＥＤＡモデルは、次のよう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ﾊﾟｰﾃｲｼﾍﾟｲ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6 companies participate JEITA-EDA-W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ember of committee are consisted 7 indus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gital consumer Electronics Suppliers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anasonic and Sony, sharp, canon, tosh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micon are NECEL, tosh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assive components are TDK, Mur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nnectors are J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screte IC is Shin Deng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DA V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ly, let me describe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Term Direction of JEITA EDA W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y of  Interconnect Mo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IS Models of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assive Component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onnector and other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JEITA IBIS Model 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ussion about Case study of Simulation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Consumer Electronics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ﾍﾟﾘｵﾄﾞﾘ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JEITA-IBIS Forum Joint  technical meeting periodic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hope the meeting will be held next sp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B9CFAE60-AAF6-4C59-AA29-3E229A4717F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7DA4A-66F4-469E-A419-01E594BEF8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A6FD-C99C-4E9C-973B-80C43DE7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F898-46FB-4C3B-BE9B-C6537591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BFE3-99BA-45E3-9341-90CFD5D637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A5EAC-3092-4F1E-8580-9C29A795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2ACCD-9CFF-499F-9A8A-16958D47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7055-DFDF-497E-8B97-BCB14ECB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482D5-1FF8-410C-B995-D557F8E0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7D3A6-A6A5-47CC-94AF-1EF2A294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10F8C-E0A7-4876-9010-A0AD2230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CA89-1E27-4A7D-AD8D-110C5077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6F6C8-FC37-44E3-8F81-A082DC64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2112-8789-4710-9636-46D738552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601992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JEITA ; Japan Electronics and Information Technology Industries Assoc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80988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ct 31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BIS Summit in Japa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EITA EDA-W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akeshi Watanabe (NEC Electronic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609480"/>
            <a:ext cx="777240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JEITA EDA -WG Activ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72CD2-A019-4F07-B50D-AF13FF8369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0"/>
            <a:ext cx="74674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Study of Interconnect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685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I Model (Connector, PCB,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46560" y="2343240"/>
            <a:ext cx="1081080" cy="1439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99280" y="2343240"/>
            <a:ext cx="1081080" cy="1439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82920" y="2774880"/>
            <a:ext cx="289080" cy="57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54560" y="2774880"/>
            <a:ext cx="289080" cy="57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846520"/>
            <a:ext cx="158256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255888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77488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299088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320688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3422520"/>
            <a:ext cx="14436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6960" y="4572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le, FP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4952880"/>
            <a:ext cx="151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364000" y="3278160"/>
            <a:ext cx="655920" cy="167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6960" y="16002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148360" y="1904760"/>
            <a:ext cx="11761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572000" y="1911240"/>
            <a:ext cx="57456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46560" y="1911240"/>
            <a:ext cx="100800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9040" y="40384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733920" y="4419720"/>
            <a:ext cx="1795320" cy="1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492000" y="3573360"/>
            <a:ext cx="241560" cy="92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421000"/>
            <a:ext cx="1511280" cy="122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2637000"/>
            <a:ext cx="647640" cy="50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2565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2781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2997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3213000"/>
            <a:ext cx="14472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8000" y="342900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263700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285264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306864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328464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50028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33080" y="414828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403280" y="4495680"/>
            <a:ext cx="1949400" cy="1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900000" y="3644640"/>
            <a:ext cx="50184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30160" y="113832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form measurement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144792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140360" y="1484280"/>
            <a:ext cx="358560" cy="144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1447920"/>
            <a:ext cx="547560" cy="14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2924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2997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67280" y="3068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67280" y="3139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213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42200" y="2852640"/>
            <a:ext cx="50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42200" y="2924280"/>
            <a:ext cx="50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6948360" y="2852280"/>
            <a:ext cx="7164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48560" y="270828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7000560" y="2708280"/>
            <a:ext cx="64764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8920" y="23623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263700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564000" y="2852640"/>
            <a:ext cx="503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564000" y="306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564000" y="3139920"/>
            <a:ext cx="503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564000" y="321300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299736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30686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6950160" y="2997360"/>
            <a:ext cx="7128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43640" y="313992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321156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6949800" y="3139560"/>
            <a:ext cx="7164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6520" y="1066680"/>
            <a:ext cx="158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api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CI-Ex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product figure"/>
          <p:cNvPicPr/>
          <p:nvPr/>
        </p:nvPicPr>
        <p:blipFill>
          <a:blip r:embed="rId1"/>
          <a:stretch/>
        </p:blipFill>
        <p:spPr>
          <a:xfrm>
            <a:off x="380880" y="4648320"/>
            <a:ext cx="2676600" cy="2028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043800" y="4876920"/>
            <a:ext cx="195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E (Japan Avi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onics Indus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-X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3200400"/>
            <a:ext cx="152640" cy="152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3124080"/>
            <a:ext cx="152280" cy="1526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8920" y="388620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477120" y="3200400"/>
            <a:ext cx="7596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114800" y="3352320"/>
            <a:ext cx="236232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419112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A97C4-F4BB-48F8-B441-C560756639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0840" y="1828800"/>
            <a:ext cx="76464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Application; DDR, PCI-Expres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; Connecto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 Components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CB (Via, Pattern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Tool; Cadenc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304920"/>
            <a:ext cx="6705360" cy="12189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connect Mod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ignal Integ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7D3E-A8F8-44B9-A77F-F189FBD4DF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6476760" cy="4272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640120" y="4648320"/>
            <a:ext cx="189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5943600"/>
            <a:ext cx="990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72200" y="762120"/>
            <a:ext cx="2527200" cy="3525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7440" y="5940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1480" y="3276720"/>
            <a:ext cx="65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57200" y="681120"/>
            <a:ext cx="3962520" cy="16351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350960" y="380880"/>
            <a:ext cx="110736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M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020C-0F55-458B-AEF1-AF811E7224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6019920" cy="5937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0481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39760" y="152280"/>
            <a:ext cx="394488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 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7960" y="4035600"/>
            <a:ext cx="2491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7120" y="4114800"/>
            <a:ext cx="189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5094360"/>
            <a:ext cx="184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5170320"/>
            <a:ext cx="183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3400" y="6016680"/>
            <a:ext cx="94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676520" y="274320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2895480" cy="19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4CAF-C49A-4A6B-A5AE-406F6F4535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541840" cy="571500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6248520" y="4724280"/>
            <a:ext cx="2438280" cy="1343520"/>
            <a:chOff x="6248520" y="4724280"/>
            <a:chExt cx="2438280" cy="1343520"/>
          </a:xfrm>
        </p:grpSpPr>
        <p:sp>
          <p:nvSpPr>
            <p:cNvPr id="237" name=""/>
            <p:cNvSpPr/>
            <p:nvPr/>
          </p:nvSpPr>
          <p:spPr>
            <a:xfrm>
              <a:off x="6248520" y="4770360"/>
              <a:ext cx="990720" cy="15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9240" y="4770360"/>
              <a:ext cx="457200" cy="15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91520" y="4923000"/>
              <a:ext cx="152280" cy="914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39240" y="5837400"/>
              <a:ext cx="45720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48720" y="4770360"/>
              <a:ext cx="8380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48520" y="5837400"/>
              <a:ext cx="8380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48520" y="4923000"/>
              <a:ext cx="1143000" cy="91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4923000"/>
              <a:ext cx="1143000" cy="91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39240" y="5075280"/>
              <a:ext cx="45720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39240" y="5456160"/>
              <a:ext cx="457200" cy="15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48720" y="5837400"/>
              <a:ext cx="8380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48720" y="5456160"/>
              <a:ext cx="8380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48520" y="5456160"/>
              <a:ext cx="8380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5075280"/>
              <a:ext cx="8380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96440" y="5075280"/>
              <a:ext cx="99036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50160" y="4998960"/>
              <a:ext cx="73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02440" y="472428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002440" y="541008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02440" y="579132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02240" y="4724280"/>
              <a:ext cx="73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2240" y="579132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02240" y="541008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23120" y="502920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725720" y="4267080"/>
            <a:ext cx="189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3240" y="6172200"/>
            <a:ext cx="94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920" y="2133720"/>
            <a:ext cx="56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943600" y="609480"/>
            <a:ext cx="2400480" cy="3200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235400" y="228600"/>
            <a:ext cx="97020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F2F69-57DF-43D2-AD37-E679D0024A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247760" y="1722600"/>
            <a:ext cx="5105520" cy="4276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603080" y="57150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5520" y="2362320"/>
            <a:ext cx="1578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6360" y="1676520"/>
            <a:ext cx="189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54160" y="2209680"/>
            <a:ext cx="182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Fi-X Conn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5920" y="254160"/>
            <a:ext cx="6633360" cy="8863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Compon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ML, Passive Components, VIA, Conn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6248520" y="4876920"/>
            <a:ext cx="2630520" cy="84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5932440" y="3467160"/>
            <a:ext cx="2271600" cy="1841400"/>
          </a:xfrm>
          <a:custGeom>
            <a:avLst/>
            <a:gdLst/>
            <a:ahLst/>
            <a:rect l="l" t="t" r="r" b="b"/>
            <a:pathLst>
              <a:path w="1431" h="1160">
                <a:moveTo>
                  <a:pt x="1191" y="0"/>
                </a:moveTo>
                <a:cubicBezTo>
                  <a:pt x="1249" y="10"/>
                  <a:pt x="1290" y="18"/>
                  <a:pt x="1351" y="24"/>
                </a:cubicBezTo>
                <a:cubicBezTo>
                  <a:pt x="1369" y="30"/>
                  <a:pt x="1396" y="24"/>
                  <a:pt x="1407" y="40"/>
                </a:cubicBezTo>
                <a:cubicBezTo>
                  <a:pt x="1416" y="53"/>
                  <a:pt x="1411" y="72"/>
                  <a:pt x="1415" y="88"/>
                </a:cubicBezTo>
                <a:cubicBezTo>
                  <a:pt x="1419" y="104"/>
                  <a:pt x="1431" y="136"/>
                  <a:pt x="1431" y="136"/>
                </a:cubicBezTo>
                <a:cubicBezTo>
                  <a:pt x="1413" y="260"/>
                  <a:pt x="1330" y="289"/>
                  <a:pt x="1231" y="344"/>
                </a:cubicBezTo>
                <a:cubicBezTo>
                  <a:pt x="1231" y="344"/>
                  <a:pt x="1171" y="384"/>
                  <a:pt x="1159" y="392"/>
                </a:cubicBezTo>
                <a:cubicBezTo>
                  <a:pt x="1133" y="409"/>
                  <a:pt x="1093" y="415"/>
                  <a:pt x="1063" y="424"/>
                </a:cubicBezTo>
                <a:cubicBezTo>
                  <a:pt x="914" y="467"/>
                  <a:pt x="793" y="467"/>
                  <a:pt x="631" y="472"/>
                </a:cubicBezTo>
                <a:cubicBezTo>
                  <a:pt x="581" y="478"/>
                  <a:pt x="549" y="484"/>
                  <a:pt x="503" y="496"/>
                </a:cubicBezTo>
                <a:cubicBezTo>
                  <a:pt x="477" y="513"/>
                  <a:pt x="450" y="522"/>
                  <a:pt x="423" y="536"/>
                </a:cubicBezTo>
                <a:cubicBezTo>
                  <a:pt x="365" y="565"/>
                  <a:pt x="437" y="540"/>
                  <a:pt x="367" y="568"/>
                </a:cubicBezTo>
                <a:cubicBezTo>
                  <a:pt x="351" y="574"/>
                  <a:pt x="333" y="575"/>
                  <a:pt x="319" y="584"/>
                </a:cubicBezTo>
                <a:cubicBezTo>
                  <a:pt x="281" y="610"/>
                  <a:pt x="243" y="633"/>
                  <a:pt x="199" y="648"/>
                </a:cubicBezTo>
                <a:cubicBezTo>
                  <a:pt x="172" y="684"/>
                  <a:pt x="143" y="720"/>
                  <a:pt x="111" y="752"/>
                </a:cubicBezTo>
                <a:cubicBezTo>
                  <a:pt x="101" y="782"/>
                  <a:pt x="80" y="798"/>
                  <a:pt x="63" y="824"/>
                </a:cubicBezTo>
                <a:cubicBezTo>
                  <a:pt x="42" y="907"/>
                  <a:pt x="0" y="1046"/>
                  <a:pt x="103" y="1072"/>
                </a:cubicBezTo>
                <a:cubicBezTo>
                  <a:pt x="136" y="1105"/>
                  <a:pt x="211" y="1131"/>
                  <a:pt x="255" y="1160"/>
                </a:cubicBezTo>
                <a:cubicBezTo>
                  <a:pt x="330" y="1152"/>
                  <a:pt x="303" y="1152"/>
                  <a:pt x="335" y="1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7722-3AD8-44F8-BE93-964A4FE8ED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334120" y="533412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Ω/H/S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7542000" cy="1922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581280" y="5105520"/>
            <a:ext cx="1403640" cy="1433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343400" y="5181480"/>
            <a:ext cx="838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BatangChe"/>
              </a:rPr>
              <a:t>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5880" y="5181480"/>
            <a:ext cx="914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LG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133720" y="5181480"/>
            <a:ext cx="1523880" cy="1135080"/>
            <a:chOff x="2133720" y="5181480"/>
            <a:chExt cx="1523880" cy="1135080"/>
          </a:xfrm>
        </p:grpSpPr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2133720" y="5410080"/>
              <a:ext cx="137160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514600" y="5181480"/>
              <a:ext cx="1143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-pa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447920" y="2819520"/>
            <a:ext cx="114300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2819520"/>
            <a:ext cx="114300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2720" y="2819520"/>
            <a:ext cx="114300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4648320"/>
            <a:ext cx="2362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 Unicode MS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3962520"/>
            <a:ext cx="6094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3962520"/>
            <a:ext cx="763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486400" y="40384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2819520"/>
            <a:ext cx="228600" cy="1295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858000" y="2438280"/>
            <a:ext cx="3808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962520" y="685800"/>
            <a:ext cx="2286000" cy="1602720"/>
            <a:chOff x="3962520" y="685800"/>
            <a:chExt cx="2286000" cy="1602720"/>
          </a:xfrm>
        </p:grpSpPr>
        <p:pic>
          <p:nvPicPr>
            <p:cNvPr id="294" name="" descr=""/>
            <p:cNvPicPr/>
            <p:nvPr/>
          </p:nvPicPr>
          <p:blipFill>
            <a:blip r:embed="rId4"/>
            <a:stretch/>
          </p:blipFill>
          <p:spPr>
            <a:xfrm>
              <a:off x="4267440" y="685800"/>
              <a:ext cx="1823760" cy="141768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sp>
          <p:nvSpPr>
            <p:cNvPr id="295" name=""/>
            <p:cNvSpPr/>
            <p:nvPr/>
          </p:nvSpPr>
          <p:spPr>
            <a:xfrm>
              <a:off x="3962520" y="1828800"/>
              <a:ext cx="228600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Measu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 flipH="1" flipV="1">
            <a:off x="6095520" y="2361960"/>
            <a:ext cx="7621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125280" bIns="12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with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324480" y="609480"/>
            <a:ext cx="2361960" cy="1679040"/>
            <a:chOff x="6324480" y="609480"/>
            <a:chExt cx="2361960" cy="1679040"/>
          </a:xfrm>
        </p:grpSpPr>
        <p:pic>
          <p:nvPicPr>
            <p:cNvPr id="300" name="" descr=""/>
            <p:cNvPicPr/>
            <p:nvPr/>
          </p:nvPicPr>
          <p:blipFill>
            <a:blip r:embed="rId5"/>
            <a:stretch/>
          </p:blipFill>
          <p:spPr>
            <a:xfrm>
              <a:off x="6400440" y="609480"/>
              <a:ext cx="221004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324480" y="1828800"/>
              <a:ext cx="23619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Sim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76760" y="625320"/>
              <a:ext cx="2133720" cy="74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152280" y="2666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Hz~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2DF6-7149-4368-AF9A-0F5EA4DA50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93280" cy="6330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</p:pic>
      <p:sp>
        <p:nvSpPr>
          <p:cNvPr id="305" name=""/>
          <p:cNvSpPr/>
          <p:nvPr/>
        </p:nvSpPr>
        <p:spPr>
          <a:xfrm>
            <a:off x="5867280" y="2743200"/>
            <a:ext cx="106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IS COOK      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24480" y="4648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6248520"/>
            <a:ext cx="2895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 and EMI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362320"/>
            <a:ext cx="243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ification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990720"/>
            <a:ext cx="1371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6019920"/>
            <a:ext cx="1981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BI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9800000">
            <a:off x="1600200" y="3885840"/>
            <a:ext cx="1828800" cy="533520"/>
          </a:xfrm>
          <a:prstGeom prst="leftArrow">
            <a:avLst>
              <a:gd name="adj1" fmla="val 50000"/>
              <a:gd name="adj2" fmla="val 8569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G I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1520" y="1143000"/>
            <a:ext cx="99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1752480"/>
            <a:ext cx="1447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man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476360" cy="17269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15200" y="396252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-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655308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152280"/>
            <a:ext cx="701028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JEITA IBIS Model Portal site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8800" y="3733920"/>
            <a:ext cx="1935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4.0 Japan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93B3F-3C22-4D90-BF1F-8DE608D16E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219320"/>
            <a:ext cx="76960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e hope to discuss case study of IBIS with you periodic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ank you for all the hel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IA/IBIS Committee!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14AE-F9D0-4F98-A6BC-D80F774EDD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440" y="609480"/>
            <a:ext cx="91371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    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Outli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EITA EDA-WG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Short Term Direction of JEITA EDA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Study of  Interconnect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4. JEITA IBIS Model Portal site Plan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860D-6CE1-421B-BED8-BE633566EB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66680" y="1419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01004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Auto Mobile Electronic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5640" y="317016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gital , RF, and Analog circu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5240" y="46180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(Motor Drive, EM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2920" y="2484360"/>
            <a:ext cx="41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 Phone, LCD /PDP TV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Camera/Video, DVD Rec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1952640"/>
            <a:ext cx="601956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86200"/>
            <a:ext cx="601956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6840" y="2027160"/>
            <a:ext cx="51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8840" y="5762520"/>
            <a:ext cx="45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Applicability of IBIS V4.1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762120"/>
            <a:ext cx="7696440" cy="5331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 of JEITA 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2000" y="-157320"/>
            <a:ext cx="617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JEITA EDA-W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3B16D-5562-42FC-97E5-A74FF17FC4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380880"/>
            <a:ext cx="8534160" cy="1067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I, SI and P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Digital Consumer Electroni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2880" y="1752480"/>
            <a:ext cx="7337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&lt;Backgrou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I      High-speed Clock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        DDR, PCI, PCI-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         High density and Large scale 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iP and Module, PCB lev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MI, SI and PI Simulation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46DD9-8F04-47AC-A7F4-539A86CE9C2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3554280"/>
            <a:ext cx="1763640" cy="142920"/>
          </a:xfrm>
          <a:custGeom>
            <a:avLst/>
            <a:gdLst>
              <a:gd name="textAreaLeft" fmla="*/ 0 w 1763640"/>
              <a:gd name="textAreaRight" fmla="*/ 1764000 w 1763640"/>
              <a:gd name="textAreaTop" fmla="*/ 18360 h 142920"/>
              <a:gd name="textAreaBottom" fmla="*/ 12456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523880"/>
            <a:ext cx="5970600" cy="4248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99000" y="2919240"/>
            <a:ext cx="2089080" cy="1440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96200" y="4621320"/>
            <a:ext cx="14500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573200"/>
            <a:ext cx="1506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7120" y="3097080"/>
            <a:ext cx="1872360" cy="11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LCR, Fil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04880" y="1687680"/>
            <a:ext cx="1907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78440" y="4711680"/>
            <a:ext cx="12643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8160" y="3859200"/>
            <a:ext cx="1872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6040" y="3021120"/>
            <a:ext cx="1179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72760" y="2046240"/>
            <a:ext cx="7887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4764240"/>
            <a:ext cx="17337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stal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05200" y="3855960"/>
            <a:ext cx="1805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72080" y="2990880"/>
            <a:ext cx="1657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8240" y="24876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SI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80880"/>
            <a:ext cx="853416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 for EMI, SI and PI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EE57-A586-4318-BCB5-8C501415AD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3880" y="160020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438280"/>
            <a:ext cx="1828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00200"/>
            <a:ext cx="19051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LCR, Filte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5029200"/>
            <a:ext cx="23623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Oscil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562720"/>
            <a:ext cx="17528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5562720"/>
            <a:ext cx="12193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3962520"/>
            <a:ext cx="838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4648320"/>
            <a:ext cx="1143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167652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2057400"/>
            <a:ext cx="1295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289548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209680" y="4266720"/>
            <a:ext cx="12193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95680" y="4495680"/>
            <a:ext cx="7632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562360" y="441936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6400440" y="4191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7086240" y="3580920"/>
            <a:ext cx="685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715000" y="22860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876920" y="2133360"/>
            <a:ext cx="75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2743200"/>
            <a:ext cx="4496040" cy="175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A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28600"/>
            <a:ext cx="853452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f EDA Model for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320" y="83808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9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89360" y="5181480"/>
            <a:ext cx="26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lexible Printed Circuit Board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D44F-FC73-4741-BEE3-E71AEDC29C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27720" y="2049480"/>
            <a:ext cx="154296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83280" y="2471760"/>
            <a:ext cx="119232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D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u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5240" y="4716360"/>
            <a:ext cx="1293840" cy="69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C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Cyb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3760" y="2681280"/>
            <a:ext cx="1194120" cy="70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334120" y="4952880"/>
            <a:ext cx="71280" cy="98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982920" y="4576320"/>
            <a:ext cx="561960" cy="35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913440" y="3173040"/>
            <a:ext cx="560520" cy="49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9200" y="2750760"/>
            <a:ext cx="0" cy="5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0" y="3313080"/>
            <a:ext cx="4000680" cy="161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DA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gital Consumer 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913120" y="4646520"/>
            <a:ext cx="912600" cy="98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2680" y="1905120"/>
            <a:ext cx="14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4114800"/>
            <a:ext cx="23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EDA 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(internal/vend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4320" y="54864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Conn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06280" y="43909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P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7200" y="17240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Semi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5040" y="18637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Pass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46440" y="5811840"/>
            <a:ext cx="1614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80880"/>
            <a:ext cx="746748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ITA EDA-WG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101772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6 Major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4648320"/>
            <a:ext cx="228600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Cadence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yberne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1828800"/>
            <a:ext cx="1422360" cy="20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nas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a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itsubi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4DAD-BE7F-461E-98A8-72995CE75A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28600"/>
            <a:ext cx="86868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Short Term Direction of JEITA EDA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7400" y="1025640"/>
            <a:ext cx="84178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of  Interconnect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 Models of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assive Component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nector and other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ITA IBIS Model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about Case study of Simulation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Consumer Electron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EITA-IBIS Joint mee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od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8290-1312-4B5B-9786-A2789D555A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610840" cy="3020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740720" y="1700280"/>
            <a:ext cx="1174680" cy="3097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61400" y="1295280"/>
            <a:ext cx="382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EITA IBIS Model Portal site Pl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27280" y="2997360"/>
            <a:ext cx="504036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1066680"/>
            <a:ext cx="2286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61720" y="609480"/>
            <a:ext cx="3321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udy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connect Mo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0D41-7AB2-4FCD-B462-4EA378B73D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13:22:28Z</dcterms:created>
  <dc:creator>A.Ito</dc:creator>
  <dc:description/>
  <dc:language>en-US</dc:language>
  <cp:lastModifiedBy>渡辺　毅</cp:lastModifiedBy>
  <dcterms:modified xsi:type="dcterms:W3CDTF">2006-10-23T04:10:45Z</dcterms:modified>
  <cp:revision>528</cp:revision>
  <dc:subject/>
  <dc:title>JEI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36251071</vt:r8>
  </property>
  <property fmtid="{D5CDD505-2E9C-101B-9397-08002B2CF9AE}" pid="3" name="_AuthorEmail">
    <vt:lpwstr>takeshi.watanabe@necel.com</vt:lpwstr>
  </property>
  <property fmtid="{D5CDD505-2E9C-101B-9397-08002B2CF9AE}" pid="4" name="_AuthorEmailDisplayName">
    <vt:lpwstr>Takeshi Watanabe</vt:lpwstr>
  </property>
  <property fmtid="{D5CDD505-2E9C-101B-9397-08002B2CF9AE}" pid="5" name="_EmailSubject">
    <vt:lpwstr>Asian IBIS Summit (Japan) - Printing  Presentations for Meeting</vt:lpwstr>
  </property>
</Properties>
</file>